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6DD34-0578-4FC6-909F-1F9504BD6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CB645-8072-426A-97C2-84D03F42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5AED4-664B-4540-8462-45E60DF7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E12C8-2429-47F4-9941-1FBB0187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39B8-82F6-49C0-950F-630BCA9FB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618080"/>
            <a:ext cx="8226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3E61-2A68-441D-9579-DF35EEAD0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61808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61808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610D-0BDD-491F-B8C1-9AD9D0AF6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618080"/>
            <a:ext cx="26485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618080"/>
            <a:ext cx="26485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618080"/>
            <a:ext cx="26485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D3AF-94BF-4BFA-8124-4387DA2479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6CD8-4552-4E97-9315-6FD54AA51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484B-E0EE-4328-8E71-A41E2EC89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D44C-EC3B-4080-80F8-C46423DF0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ABC8-FC40-4C23-A694-613B3402E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0B21-D603-4909-A5FB-27BE5554C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61808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DFBC-7DFD-4082-925F-0DCDB8350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61808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4801-ED35-4DA9-BF33-2A18B2CC0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618080"/>
            <a:ext cx="82263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85CC-8D24-40F7-A0BB-008F16CA6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37A6C-5898-49EB-825C-EBCA5BDD643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492200"/>
            <a:ext cx="8734680" cy="4600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984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常の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600" y="42372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受診歴のポップアップ表示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1844640"/>
            <a:ext cx="576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47640" y="2349360"/>
            <a:ext cx="101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クリックすると、ポップアップ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受診歴一覧が表示され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次ページ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1"/>
            <a:endCxn id="53" idx="6"/>
          </p:cNvCxnSpPr>
          <p:nvPr/>
        </p:nvCxnSpPr>
        <p:spPr>
          <a:xfrm flipH="1" flipV="1">
            <a:off x="3492360" y="2060640"/>
            <a:ext cx="2555640" cy="655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494000"/>
            <a:ext cx="8731440" cy="459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2920" y="9828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ップアップにより、受診歴の一覧が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3078000"/>
            <a:ext cx="417672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31960" y="3798720"/>
            <a:ext cx="2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クリックすると、別ウィンドウに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該当の診断画面が表示され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0"/>
            <a:endCxn id="58" idx="4"/>
          </p:cNvCxnSpPr>
          <p:nvPr/>
        </p:nvCxnSpPr>
        <p:spPr>
          <a:xfrm flipV="1">
            <a:off x="4565520" y="3509640"/>
            <a:ext cx="864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24600" y="42372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受診歴のポップアップ表示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1492200"/>
            <a:ext cx="8734680" cy="4600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29680" y="998640"/>
            <a:ext cx="36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基本情報を上部に配置した画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閲覧のみとなりま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6320" y="40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基本情報の表示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4840" y="1577880"/>
          <a:ext cx="7175520" cy="3384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268560"/>
                <a:gridCol w="585720"/>
                <a:gridCol w="277920"/>
                <a:gridCol w="504720"/>
                <a:gridCol w="503280"/>
                <a:gridCol w="649080"/>
                <a:gridCol w="287280"/>
                <a:gridCol w="720720"/>
                <a:gridCol w="287640"/>
                <a:gridCol w="504720"/>
                <a:gridCol w="287280"/>
                <a:gridCol w="576360"/>
              </a:tblGrid>
              <a:tr h="162360"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診察券番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00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発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判定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年月日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/6/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齢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歳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ヶ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l sig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3"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温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℃] [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脈拍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[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吸数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[SpO2 99% (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om air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O2 L)] </a:t>
                      </a:r>
                      <a:r>
                        <a:rPr b="1" lang="ja-JP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左右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圧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/ mmHg 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右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/ mmHg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1492200"/>
            <a:ext cx="8734320" cy="460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29680" y="998640"/>
            <a:ext cx="36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基本情報を上部に配置した画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閲覧のみとなりま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6320" y="40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基本情報の表示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8000" y="1577880"/>
          <a:ext cx="7175520" cy="338400"/>
        </p:xfrm>
        <a:graphic>
          <a:graphicData uri="http://schemas.openxmlformats.org/drawingml/2006/table">
            <a:tbl>
              <a:tblPr/>
              <a:tblGrid>
                <a:gridCol w="860760"/>
                <a:gridCol w="861840"/>
                <a:gridCol w="268200"/>
                <a:gridCol w="585720"/>
                <a:gridCol w="277920"/>
                <a:gridCol w="504720"/>
                <a:gridCol w="503280"/>
                <a:gridCol w="649440"/>
                <a:gridCol w="287280"/>
                <a:gridCol w="720720"/>
                <a:gridCol w="287280"/>
                <a:gridCol w="505080"/>
                <a:gridCol w="287280"/>
                <a:gridCol w="576000"/>
              </a:tblGrid>
              <a:tr h="162360"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診察券番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00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発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判定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年月日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/6/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齢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歳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ヶ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l sig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3">
                  <a:txBody>
                    <a:bodyPr lIns="18000" rIns="18000" tIns="38160" bIns="18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温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℃] [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脈拍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[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吸数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[SpO2 99% (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om air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O2 L)] </a:t>
                      </a:r>
                      <a:r>
                        <a:rPr b="1" lang="ja-JP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左右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圧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/ mmHg 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右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/ mmHg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9109080" y="1268280"/>
            <a:ext cx="1584360" cy="554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492200"/>
            <a:ext cx="1008360" cy="712800"/>
          </a:xfrm>
          <a:prstGeom prst="rect">
            <a:avLst/>
          </a:prstGeom>
          <a:solidFill>
            <a:srgbClr val="d9d9d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47628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ここには重症度判定は、不要（スペースが無駄）。診察券番号と主訴の背景の色を赤、黄、緑の淡いのもので色分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文字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歳でも見えるように大きく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844640"/>
            <a:ext cx="863640" cy="21600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受診一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1557360"/>
            <a:ext cx="863640" cy="21600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2276640"/>
            <a:ext cx="1008360" cy="4537080"/>
          </a:xfrm>
          <a:prstGeom prst="rect">
            <a:avLst/>
          </a:prstGeom>
          <a:solidFill>
            <a:srgbClr val="d9d9d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349360"/>
            <a:ext cx="863640" cy="32400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受診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2565360"/>
            <a:ext cx="863640" cy="21600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初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12.10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気管支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2852640"/>
            <a:ext cx="863640" cy="216000"/>
          </a:xfrm>
          <a:prstGeom prst="rect">
            <a:avLst/>
          </a:prstGeom>
          <a:solidFill>
            <a:srgbClr val="f2f2f2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23.10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急性胃腸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068640"/>
            <a:ext cx="863640" cy="216000"/>
          </a:xfrm>
          <a:prstGeom prst="rect">
            <a:avLst/>
          </a:prstGeom>
          <a:solidFill>
            <a:srgbClr val="f2f2f2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23.10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急性胃腸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284640"/>
            <a:ext cx="863640" cy="215640"/>
          </a:xfrm>
          <a:prstGeom prst="rect">
            <a:avLst/>
          </a:prstGeom>
          <a:solidFill>
            <a:srgbClr val="f2f2f2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23.10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咽頭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500280"/>
            <a:ext cx="863640" cy="216000"/>
          </a:xfrm>
          <a:prstGeom prst="rect">
            <a:avLst/>
          </a:prstGeom>
          <a:solidFill>
            <a:srgbClr val="f2f2f2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23.09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喘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3716280"/>
            <a:ext cx="863640" cy="217440"/>
          </a:xfrm>
          <a:prstGeom prst="rect">
            <a:avLst/>
          </a:prstGeom>
          <a:solidFill>
            <a:srgbClr val="f2f2f2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23.08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溶連菌感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5302080"/>
            <a:ext cx="863640" cy="32400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処方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5662440"/>
            <a:ext cx="863640" cy="32400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予防接種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6021360"/>
            <a:ext cx="863640" cy="32544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健診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85264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20" y="2349360"/>
            <a:ext cx="73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診は表示固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直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回分を表示。受診歴をクリックすると全受診歴が表示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3970440"/>
            <a:ext cx="863640" cy="32364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既往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00680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3933720"/>
            <a:ext cx="73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カルテ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.H.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簡易表示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4294080"/>
            <a:ext cx="863640" cy="216000"/>
          </a:xfrm>
          <a:prstGeom prst="rect">
            <a:avLst/>
          </a:prstGeom>
          <a:solidFill>
            <a:srgbClr val="f2f2f2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22.10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てんか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4510080"/>
            <a:ext cx="863640" cy="216000"/>
          </a:xfrm>
          <a:prstGeom prst="rect">
            <a:avLst/>
          </a:prstGeom>
          <a:solidFill>
            <a:srgbClr val="f2f2f2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22.09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卵ｱﾚﾙｷﾞ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726080"/>
            <a:ext cx="863640" cy="217440"/>
          </a:xfrm>
          <a:prstGeom prst="rect">
            <a:avLst/>
          </a:prstGeom>
          <a:solidFill>
            <a:srgbClr val="f2f2f2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21.08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虐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1274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上記受信時の処方内容のみを時系列表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566100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51808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ワクチンスケジューラー連動で接種歴記録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615780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6360" y="5992920"/>
            <a:ext cx="93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ヶ月健診と表示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異常ありなしの表示のみ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クリックするとその健診内容の詳細が右画面（診療録画面）に表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1484280"/>
            <a:ext cx="153828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12345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7920" y="1484280"/>
            <a:ext cx="107928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ヶ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1484280"/>
            <a:ext cx="69516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1700280"/>
            <a:ext cx="136872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38.5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6280" y="1484280"/>
            <a:ext cx="90972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倦怠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37200" y="1484280"/>
            <a:ext cx="28908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1484280"/>
            <a:ext cx="153684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患者基本情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1700280"/>
            <a:ext cx="76860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1700280"/>
            <a:ext cx="107964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 60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140472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 12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4720" y="1700280"/>
            <a:ext cx="1403280" cy="21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P 135/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135080"/>
            <a:ext cx="217440" cy="493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1365120"/>
            <a:ext cx="7345440" cy="839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3180000">
            <a:off x="7835760" y="1153800"/>
            <a:ext cx="360360" cy="41112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85080" y="9777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閲覧のみ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941720"/>
            <a:ext cx="863640" cy="32400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入院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94172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476712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入院歴は処方歴や予防接種歴と共に閉じた状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4941720"/>
            <a:ext cx="863640" cy="324000"/>
          </a:xfrm>
          <a:prstGeom prst="rect">
            <a:avLst/>
          </a:prstGeom>
          <a:solidFill>
            <a:srgbClr val="a6a6a6"/>
          </a:solidFill>
          <a:ln w="1260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紹介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67480" y="1947960"/>
            <a:ext cx="2519280" cy="1152360"/>
          </a:xfrm>
          <a:prstGeom prst="roundRect">
            <a:avLst>
              <a:gd name="adj" fmla="val 16667"/>
            </a:avLst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主訴の右隣に診断名を入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患者基本情報を削除しても良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削除しても良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体重を下に移動しても可。その場合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W 13k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表記し右端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2360" y="2664000"/>
            <a:ext cx="2448000" cy="936360"/>
          </a:xfrm>
          <a:prstGeom prst="wedgeRoundRectCallout">
            <a:avLst>
              <a:gd name="adj1" fmla="val -85416"/>
              <a:gd name="adj2" fmla="val 671"/>
              <a:gd name="adj3" fmla="val 16667"/>
            </a:avLst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診断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診歴の色は既存どおりとな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2360" y="3887640"/>
            <a:ext cx="2952720" cy="936720"/>
          </a:xfrm>
          <a:prstGeom prst="wedgeRoundRectCallout">
            <a:avLst>
              <a:gd name="adj1" fmla="val -79370"/>
              <a:gd name="adj2" fmla="val 671"/>
              <a:gd name="adj3" fmla="val 16667"/>
            </a:avLst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診断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問診側既往歴を表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既往歴はありますか？」の設問に日付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入力できるよう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48000" y="2205000"/>
            <a:ext cx="2448000" cy="674640"/>
          </a:xfrm>
          <a:prstGeom prst="wedgeRoundRectCallout">
            <a:avLst>
              <a:gd name="adj1" fmla="val -86509"/>
              <a:gd name="adj2" fmla="val -12740"/>
              <a:gd name="adj3" fmla="val 16667"/>
            </a:avLst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ポップアップで受診歴全体を表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診歴タブは削除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48000" y="4967280"/>
            <a:ext cx="2952720" cy="936720"/>
          </a:xfrm>
          <a:prstGeom prst="wedgeRoundRectCallout">
            <a:avLst>
              <a:gd name="adj1" fmla="val -79370"/>
              <a:gd name="adj2" fmla="val 671"/>
              <a:gd name="adj3" fmla="val 16667"/>
            </a:avLst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行目、年月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行目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診断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行目以降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薬剤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48000" y="4608360"/>
            <a:ext cx="2953080" cy="648000"/>
          </a:xfrm>
          <a:prstGeom prst="wedgeRoundRectCallout">
            <a:avLst>
              <a:gd name="adj1" fmla="val -136486"/>
              <a:gd name="adj2" fmla="val 26398"/>
              <a:gd name="adj3" fmla="val 16667"/>
            </a:avLst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取り急ぎ、リンクな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入院歴は、別途実装が必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48000" y="5759280"/>
            <a:ext cx="2953080" cy="1008360"/>
          </a:xfrm>
          <a:prstGeom prst="wedgeRoundRectCallout">
            <a:avLst>
              <a:gd name="adj1" fmla="val -139546"/>
              <a:gd name="adj2" fmla="val -41541"/>
              <a:gd name="adj3" fmla="val 16667"/>
            </a:avLst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問診側予防接種歴を表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今までに受けた予防接種はどれですか？」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予防接種の名前を一覧表示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264360"/>
            <a:ext cx="2952720" cy="1008000"/>
          </a:xfrm>
          <a:prstGeom prst="wedgeRoundRectCallout">
            <a:avLst>
              <a:gd name="adj1" fmla="val -54495"/>
              <a:gd name="adj2" fmla="val -47754"/>
              <a:gd name="adj3" fmla="val 16667"/>
            </a:avLst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れから、実装する内容を表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3:50:40Z</dcterms:created>
  <dc:creator>tro</dc:creator>
  <dc:description/>
  <dc:language>en-US</dc:language>
  <cp:lastModifiedBy>YAHAGI NAOHISA</cp:lastModifiedBy>
  <dcterms:modified xsi:type="dcterms:W3CDTF">2011-10-11T09:15:40Z</dcterms:modified>
  <cp:revision>13</cp:revision>
  <dc:subject/>
  <dc:title>スライド 1</dc:title>
</cp:coreProperties>
</file>